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0DE-7BE4-49F1-9113-A0F4BD4F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4B5-8CE8-46FE-B867-84A5E489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F7AD9-CA19-4F78-A9D7-51852FD7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7BB48-9912-4803-9294-BA770870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64E01-A03F-4FAD-94B0-1AACBF0B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61686-77E8-4DD8-AC62-27776ACD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514D10-68DE-4B47-B7F3-1F7C4F98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244C63-FF89-47EE-8E33-20808797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D1040-5A82-4AA5-B526-D116C18F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46799-3DF5-4916-85EA-CBD6B0F1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266E7-AA3C-4588-8A7A-AC5F604A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562E3-3FBA-4574-9DB2-41D1B450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F88A-2B4A-43BD-AB61-C93C01FE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54EBA-BFC3-425F-A998-AF5AF027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B0848-4147-445A-BF5F-826867D2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1BBD4-2F53-4922-AD15-51A42D07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5A730-1601-4076-BF2D-D56939AE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B701A5-D761-4FCA-B1D0-DACF5FD3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E737A-B7C9-42C2-B870-558E81A4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92BCE4-041B-4F38-81DA-D539D28A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752BE-459B-41D0-A8F0-E92B58AD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6E75E-893A-4AD3-967E-C4336C48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7A3C2-09EC-4C0A-AC8A-1BAB7796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A96-7803-4D5B-8C8C-C3789D97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5074C8-43C0-4A41-BDC8-1C283151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DBCBF-1FAF-4FD2-B0F1-D34F22F2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EA79E-B2C5-43E4-8DC5-546057B0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20EEA-48E4-438B-88FF-16A31ABC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F185D-EBAA-47DD-B097-C0C9988C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01332-0828-485C-ADBA-AC995736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5DABE-01E8-4E25-9D3E-107C4DAC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C2664-8712-48E1-B483-F6ACB612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61669-0EB1-44EB-9792-EB840685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6CB51-57E9-484F-A9F1-46801624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3AE0-AC7C-4A0A-A976-A0601947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65789-6264-49F1-8D07-8B3F0E0F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AEA42-11B9-4594-AA86-25D243CA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7F560-EA2C-438F-A7A2-E9CE759F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5D5AE6-E1FC-4393-A694-E03E051D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CFFAA-9D26-4CD9-AFF8-32646DF6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598CCF-1E19-4087-A9DE-6CCC7EB2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68542-EDF5-4132-9D99-2AAEC506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D7B6A7-D961-44D6-AC9B-03CAE01D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42DC4-D2E6-45BF-860A-C2CCBF9F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CE6E0-850E-459B-B3A0-91FE1191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5FDB-6220-43C9-A8FC-FB572E7B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CBADF8-ADA1-4D1F-B01E-B5C23654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B35ED-275D-410F-9D09-AD636651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881644-C714-4759-9D7B-7790B09D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4A770F-4C22-4240-BC4B-443C546F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29C345-7432-4C69-B2DF-9A0C1ADE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8DD0-4927-4497-A2BF-1A54D495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36DB-DBBB-481B-9B55-8B82FB90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72FD-6D98-47EA-9133-05546C32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845F-2D96-45CC-B8E8-02AF399A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D5E8-5602-477A-9858-DD331ED9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DD8-795B-4A80-889A-D3365796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4F84-2241-4331-8D5F-F76711B8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D532-2756-4C19-BB49-D80E2227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4630-4B03-462B-9905-24694770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1700-F20B-41D6-8149-3E28F7C0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27C5-1F3C-4C16-AF30-238A531D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1AACB-FD39-4FFE-B359-21EFCF19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18A4-224C-4D98-98E4-8408D7D8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0821B-6596-4CBD-94A5-F54219B3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D6895-6707-41E6-A300-6B6E0EE2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B094C-5B5A-4B33-9CC1-E78EB6AB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B0D-7A7B-4880-B420-94136F30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463E-C6F6-46D8-8803-7D33C174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9822B-9760-4773-9A9A-54AD9E8A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6773B-673C-4E4F-A323-5FA0E661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29A60-9937-460F-9079-85121B44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F03B9-ABB3-4A64-B9F6-2EC5BC2D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A1EDF-62C3-4A26-8960-0046E6C9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45050-A93F-416E-994F-33E47445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E52F1-8C60-4216-8FEF-90E3F3A2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41FDC-6CCA-4B34-8944-D73B5EA6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CBB0A-2713-44D5-AAB5-937F1983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3F5B-8AC3-4F53-8A76-F50078D9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CF536-61BE-48FE-A8F3-B8B21C1B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58D2B-CD8E-4953-8767-BF73FEFE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AD138-FB40-4E85-B2BF-97800AC1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D0C01-572F-4CEF-AEA9-AE5AC2DB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38920-3C61-4096-8ACF-26C7A0A2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56B3F-D782-43B5-9797-DE38E349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545BD-D709-4468-A23C-1CABE076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27210-1066-4183-AC1B-EB23E89B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6BA13-CC67-4C5E-B685-00D0B4AA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2949F-F9C7-415D-A880-FE6FF599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AB2-0EF1-453E-9EED-312960ED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DD1EE-E710-441F-8C87-CC11002E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534D5-B517-4CEB-9092-6CCF3412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D5200-911E-4111-9210-AAEE509A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F9A10-0659-43B9-9C89-C58E68D2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2AD3E-A3A5-4341-A0FA-43D0ECEA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E0C93-3415-4BE3-B6FA-EFD933DD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4BDF9-713F-421A-888B-B571F191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519BF-54FA-459A-9B47-A76FA66C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E40AB-D2A7-497B-B615-47D66954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0A58C-D072-4D40-B3B9-E5381CE0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DD9-ACE4-48DD-AE72-AF30C7DA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C3E2B-B523-4901-90FB-AF5A908E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6A963-6EAD-4F88-A139-7629BC55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E73E3-0186-49BA-8D45-3F629DF6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C7912-D235-4967-9947-ED717565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E9E7F-49E4-41A9-A5A3-63C0BD4F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D949C-4155-4ADF-BB28-3B48AB0D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931D2-3561-4C1C-843B-FE437A06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A4343-7182-4D1F-91B4-98B70DE3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8F449-34BF-4F3B-82A6-F13C0F57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2C566-BDDF-4C60-8009-862D7F5D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9DA-7BCF-42AE-AEE4-7C26F381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177C9-B410-4299-A26B-D290A284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BA8A8-7D1E-4A4B-80B2-BC42B1F8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2972B-903A-4C18-8180-BB86C7E5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562DE-8CFB-4EF7-9B95-43865582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7FA9D-D7FB-4F34-93D0-3A56C498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265F5-0CF0-484B-A270-C5FB8EF8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65F60-9B23-4301-9152-5DC04EFA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1C850-45C5-4DD2-A819-0E515885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4726F-D651-46E2-9CD8-7C635C57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B4D07-9023-4BFE-BC82-F86B875D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B893-26BD-4AFD-BA01-8D2EFC99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5EC0C-5356-4994-8A28-8FF0A788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8AE8B-E8BE-4AAB-9D22-9025D2E6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D3735-62B2-48E2-BDC0-DA8E11A8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CDF29-B111-48C2-B074-3989AD03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4C139-4D6E-4CC8-BFCE-7C94D406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60CFA-5AA2-4F9F-AE43-4E71A965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CBFA4-AAD4-4CE3-9965-376052C1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EA647-1990-4FAA-9606-CF7D3D72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D8D2F-DE3A-4E4A-9424-01BD791B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FCFB1-8D2F-4593-8EFD-FF9055E4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D7A-3D96-4241-880B-386910BB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3C96A-B3EB-4956-BF6E-4F5F8C88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65F3E-CC50-4FD8-8312-B01B0BFE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10362-2C24-4FCE-B378-DF728C79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52886-48ED-4B47-82C3-284A1F55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E73C2-1FB5-449A-AC9C-1EE73584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50416-29C8-449B-9BCF-EEF28817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0D78E-4330-45D6-AC90-A9198A22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214B91-4AB0-415E-9FA2-524029A7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E9E02-CAFB-4707-BB27-12E76433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CEF3CC-866E-4FD4-B5A4-B8D90B2D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179D-FD35-495D-AECC-8E4B61B89B47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7598-9DD4-41AB-9258-67FE826130F0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7D2E-A633-48FA-AEA2-0AD83711AF22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7C2F-4CB2-4E0C-BF55-9164FF064ADD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687D-60D0-4029-866E-3F654B86018A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5153-E674-4705-95C7-056145B13262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5E83-3A6E-4EB7-8883-D0D6CEC4FE11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E9DD-3F58-4837-835B-24F1DBEA2519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A961-ECA1-4DBF-B38A-3E6B132A80C3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BFFB-B29E-438F-AEE3-3D3BBC85B82A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DBA8-164E-408D-9556-6F092177D8E2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C160-8562-404F-B39F-EF42DABC6137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6DE4-93D6-479C-AFC3-F7C9DE8BB8E0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1191-52F3-4A1F-9B89-68956A80BF70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7EDF-0FA8-4DC6-9788-2F6DC44A07FC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D081-A077-43B2-8138-0B739D244371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D317-2F20-451A-A903-06AE23778936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9076-C136-4A31-8AF7-960231D0DF8F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50BB-AD50-4147-AAA8-AED9A2BCF1A4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19ED-75A8-4B90-B64E-2ECBD4CD807B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5E66-A091-4FAE-8F78-8AFD2D65A00B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4860-1BA2-4B58-88EF-6C638CC4A832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177C-72E6-4E1E-A25A-1824D9D64FFF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F88A-F724-4E71-89B5-25DAB1787EE8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Georgia"/>
              </a:rPr>
              <a:t>CHRIS DANIE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Georgia"/>
              </a:rPr>
              <a:t>MAYA IID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Georgia"/>
              </a:rPr>
              <a:t>ETEC 601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09"/>
                </a:solidFill>
                <a:latin typeface="Georgia"/>
              </a:rPr>
              <a:t>Research Method:</a:t>
            </a:r>
            <a:br>
              <a:rPr sz="4200"/>
            </a:br>
            <a:r>
              <a:rPr b="0" lang="en-US" sz="4200" spc="-1" strike="noStrike">
                <a:solidFill>
                  <a:srgbClr val="f07f09"/>
                </a:solidFill>
                <a:latin typeface="Georgia"/>
              </a:rPr>
              <a:t>Observation</a:t>
            </a:r>
            <a:endParaRPr b="0" lang="en-US" sz="4200" spc="-1" strike="noStrike">
              <a:solidFill>
                <a:srgbClr val="164c6c"/>
              </a:solidFill>
              <a:latin typeface="Georgia"/>
            </a:endParaRPr>
          </a:p>
        </p:txBody>
      </p:sp>
      <p:pic>
        <p:nvPicPr>
          <p:cNvPr id="608" name="Picture 3" descr="GS005C.TIF"/>
          <p:cNvPicPr/>
          <p:nvPr/>
        </p:nvPicPr>
        <p:blipFill>
          <a:blip r:embed="rId1"/>
          <a:stretch/>
        </p:blipFill>
        <p:spPr>
          <a:xfrm>
            <a:off x="2438280" y="4800600"/>
            <a:ext cx="434340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Do’s and Don’ts for Observation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-Observatio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481680" indent="-24012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eorgia"/>
              </a:rPr>
              <a:t>DO</a:t>
            </a:r>
            <a:endParaRPr b="0" lang="en-US" sz="2800" spc="-1" strike="noStrike">
              <a:solidFill>
                <a:srgbClr val="323232"/>
              </a:solidFill>
              <a:latin typeface="Georgia"/>
            </a:endParaRPr>
          </a:p>
          <a:p>
            <a:pPr lvl="2" marL="723240" indent="-200880">
              <a:lnSpc>
                <a:spcPct val="90000"/>
              </a:lnSpc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. Analyze and select appropriate  participa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lnSpc>
                <a:spcPct val="90000"/>
              </a:lnSpc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lnSpc>
                <a:spcPct val="90000"/>
              </a:lnSpc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. Research classroom organization and struct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lnSpc>
                <a:spcPct val="90000"/>
              </a:lnSpc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lnSpc>
                <a:spcPct val="90000"/>
              </a:lnSpc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. Prepare open ended ques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lnSpc>
                <a:spcPct val="90000"/>
              </a:lnSpc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lnSpc>
                <a:spcPct val="90000"/>
              </a:lnSpc>
              <a:spcBef>
                <a:spcPts val="499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4. Think about what you want to learn from the observ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481680" indent="-24012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Analyze Target Audience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pic>
        <p:nvPicPr>
          <p:cNvPr id="632" name="Content Placeholder 3" descr="clangnuts%20bluetooth.jpg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Do’s and Don’ts for Observation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-Observatio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eorgia"/>
              </a:rPr>
              <a:t>DON’T</a:t>
            </a:r>
            <a:endParaRPr b="0" lang="en-US" sz="2800" spc="-1" strike="noStrike">
              <a:solidFill>
                <a:srgbClr val="323232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. Have a predetermined outcome from the observ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. Encourage students to behave irregularl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. Plan too casual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Do’s and Don’ts for Observation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uring Observation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03640" indent="-250920">
              <a:spcBef>
                <a:spcPts val="649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3232"/>
                </a:solidFill>
                <a:latin typeface="Georgia"/>
              </a:rPr>
              <a:t>DO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2" marL="756360" indent="-210240">
              <a:spcBef>
                <a:spcPts val="524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1. Encourage students to think out loud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2" marL="756360" indent="-210240">
              <a:spcBef>
                <a:spcPts val="524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2" marL="756360" indent="-210240">
              <a:spcBef>
                <a:spcPts val="524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2. Utilize all senses in observing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2" marL="756360" indent="-210240">
              <a:spcBef>
                <a:spcPts val="524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2" marL="756360" indent="-210240">
              <a:spcBef>
                <a:spcPts val="524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3. Remain mobile throughout the observation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2" marL="756360" indent="-210240">
              <a:spcBef>
                <a:spcPts val="524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2" marL="756360" indent="-210240">
              <a:spcBef>
                <a:spcPts val="524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4. Keep a log or complete an observation guide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2" marL="756360" indent="-210240">
              <a:spcBef>
                <a:spcPts val="524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2" marL="756360" indent="-210240">
              <a:spcBef>
                <a:spcPts val="649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5. Be consistent with time day and duration of observa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Do’s and Don’ts for Observation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uring Observ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eorgia"/>
              </a:rPr>
              <a:t>DON’T</a:t>
            </a:r>
            <a:endParaRPr b="0" lang="en-US" sz="2800" spc="-1" strike="noStrike">
              <a:solidFill>
                <a:srgbClr val="323232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. Overly help or prompt stud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. Infer ideas based on observ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. Censor what you write dow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4. Observe too narrow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Narrow Observation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pic>
        <p:nvPicPr>
          <p:cNvPr id="640" name="Content Placeholder 3" descr="2006-01-16.gif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Resources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52280" y="1526760"/>
            <a:ext cx="884232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5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ills E. Geoffrey (copyright 2011) Action research –A Guide for the Teacher Researcher. Fourth Edition. pg 70-78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55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55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http://oldweb.madison.k12.wi.us/sod/car/carhomepage.htm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55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55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http://www.humboldt.edu/~tha1/observ.htm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55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55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http://www.cdc.gov/healthyYouth/evaluation/pdf/brief16.pdf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2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oldweb.madison.k12.wi.us/sod/car/search.cgi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Mahalo!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pic>
        <p:nvPicPr>
          <p:cNvPr id="644" name="Content Placeholder 3" descr="BSK011C.TIF"/>
          <p:cNvPicPr/>
          <p:nvPr/>
        </p:nvPicPr>
        <p:blipFill>
          <a:blip r:embed="rId1"/>
          <a:stretch/>
        </p:blipFill>
        <p:spPr>
          <a:xfrm>
            <a:off x="1905120" y="1770120"/>
            <a:ext cx="5300640" cy="4630680"/>
          </a:xfrm>
          <a:prstGeom prst="rect">
            <a:avLst/>
          </a:prstGeom>
          <a:ln w="0">
            <a:noFill/>
          </a:ln>
        </p:spPr>
      </p:pic>
      <p:sp>
        <p:nvSpPr>
          <p:cNvPr id="645" name="TextBox 4"/>
          <p:cNvSpPr/>
          <p:nvPr/>
        </p:nvSpPr>
        <p:spPr>
          <a:xfrm>
            <a:off x="2514600" y="396252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onsider This: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few observations and much reasoning lead to error; many observations and a little reasoning lead to truth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Alexis Carrel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Roles of an Observer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articipant Observ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Researcher is a genuine participant in the activity being studied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mote Observ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Researcher observes out of sight of participants in the activity being studied. 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Picture 3" descr="AAKS009C.TIF"/>
          <p:cNvPicPr/>
          <p:nvPr/>
        </p:nvPicPr>
        <p:blipFill>
          <a:blip r:embed="rId1"/>
          <a:stretch/>
        </p:blipFill>
        <p:spPr>
          <a:xfrm>
            <a:off x="4648320" y="4132440"/>
            <a:ext cx="4038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Roles of an Observer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tive Participant Observ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Researcher has an active role in activity being studied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Must be aware not to get so involved that you forget to record observations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Most common data collection method for teachers doing action research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Roles of an Observer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ivileged, Active Observ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Researcher has active role in activity being studied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Researcher is able to step back and record because not solely responsible for activity. 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For teachers doing action research, this role type requires teachers to take time away from non teaching activities. 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Roles of an Observer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assive Observ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Researcher does not have an active role in activity being studied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Provides new perspective on activity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Field Notes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serve and record everything you c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Unsure of what you want to attune to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serve and look for nothing in particul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Familiar setting, what makes this activity run smoothly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serve and look for paradox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Look for disruptions and unexpected responses</a:t>
            </a:r>
            <a:br>
              <a:rPr sz="2200"/>
            </a:b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ase Study 1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6760"/>
            <a:ext cx="850428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55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irmingham, Mary. (2001) How Do we Teach Students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ith High Impulsivity and Anxiety to Improve in the Area of Self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Regulation?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ttp://oldweb.madison.k12.wi.us/sod/car/abstracts/29.pdf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.   Researchers observed students pre-instruction to classify the target group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76800" indent="-442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Georgia"/>
            </a:endParaRPr>
          </a:p>
          <a:p>
            <a:pPr marL="234360" indent="-23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.  Observational data that was collected helped researchers create questions to guide instruction and to discover what each student required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.  Observation served as a final assessment of effectiveness that the  instruction</a:t>
            </a:r>
            <a:br>
              <a:rPr sz="2100"/>
            </a:b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3" descr="SDK001C.TIF"/>
          <p:cNvPicPr/>
          <p:nvPr/>
        </p:nvPicPr>
        <p:blipFill>
          <a:blip r:embed="rId1"/>
          <a:stretch/>
        </p:blipFill>
        <p:spPr>
          <a:xfrm>
            <a:off x="7848720" y="228600"/>
            <a:ext cx="990360" cy="160020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ase Study 2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eelman, Carrie. (2002). Moving Out of Chaos: A Reading Workshop Approach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ttp://oldweb.madison.k12.wi.us/sod/car/abstracts/372.pdf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.  Observation used to log the pre and post implementation of Readers workshop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.  Comparison observation is utilized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.  Observation used as formative assessment.  </a:t>
            </a:r>
            <a:br>
              <a:rPr sz="2700"/>
            </a:b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5" descr="BSK005C.TIF"/>
          <p:cNvPicPr/>
          <p:nvPr/>
        </p:nvPicPr>
        <p:blipFill>
          <a:blip r:embed="rId1"/>
          <a:stretch/>
        </p:blipFill>
        <p:spPr>
          <a:xfrm>
            <a:off x="6400800" y="3657600"/>
            <a:ext cx="2209680" cy="2589120"/>
          </a:xfrm>
          <a:prstGeom prst="rect">
            <a:avLst/>
          </a:prstGeom>
          <a:ln w="0">
            <a:noFill/>
          </a:ln>
        </p:spPr>
      </p:pic>
      <p:sp>
        <p:nvSpPr>
          <p:cNvPr id="628" name="TextBox 6"/>
          <p:cNvSpPr/>
          <p:nvPr/>
        </p:nvSpPr>
        <p:spPr>
          <a:xfrm>
            <a:off x="6477120" y="48006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eading worksho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7:01:33Z</dcterms:created>
  <dc:creator>Maya Iida</dc:creator>
  <dc:description/>
  <dc:language>en-US</dc:language>
  <cp:lastModifiedBy>Chris Daniels</cp:lastModifiedBy>
  <dcterms:modified xsi:type="dcterms:W3CDTF">2010-03-17T03:28:22Z</dcterms:modified>
  <cp:revision>33</cp:revision>
  <dc:subject/>
  <dc:title>Research Method: Observation</dc:title>
</cp:coreProperties>
</file>